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B59-1E7B-4AC4-BDAA-927B7C48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D1D-ECEB-42DD-A537-0D2FD5FF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640-42AE-43F6-8FCB-6FAFCCC3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AF0-86AD-49B2-8A59-A8D501CC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796-86C5-4BD4-A476-991D742A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73D-2DDD-4075-BD6D-E62CC7C7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419-1794-4A36-A7D3-D525C700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F4D-3332-4E5F-A136-F5B2FD90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7C7-95FA-4BC2-BAA3-2A68832F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C56-C481-47F1-A17D-06314BBA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A04-4B7B-442B-B42C-6C58E79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3AD-D5ED-4234-9D2A-D5A4B926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BE4D-A10F-4548-99BD-E19C5B10B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Chemical Rea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Reaction R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Chemical reactions occur at different speeds.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Baking soda and vine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Decomposition of carbon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ome reactions take fractions of a second to finish and others can take millions of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Ignition of trinitrotolu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Half-life dec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Chemical Rea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There are several things that affect how fast a reaction can take plac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Types of sub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Certain substances will not react quickly because of differences in their struct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Heating a mixture of reactants usually speeds up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Chemical Rea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Ag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tirring a mixture of reactants causes them to come into contact with each other more often and speeds up the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Crushing a substance gives more space for the substance to re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Chemical Rea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Concen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If there is more of a substance present, it is easier for it to react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ubstances added to a chemical reaction to speed it up (are not used up in the reaction and do not alter the reacting substances in any w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7:39:36Z</dcterms:created>
  <dc:creator>EndUser</dc:creator>
  <dc:description/>
  <dc:language>en-US</dc:language>
  <cp:lastModifiedBy>EndUser</cp:lastModifiedBy>
  <dcterms:modified xsi:type="dcterms:W3CDTF">2009-02-04T17:42:38Z</dcterms:modified>
  <cp:revision>2</cp:revision>
  <dc:subject/>
  <dc:title>Chemical Reactions</dc:title>
</cp:coreProperties>
</file>